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move the slide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D39C744-A5C5-4DC3-8032-87E514E7A1C0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809868C-9C8B-410C-B672-22F3905DCB6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24DDE74-C1F9-4009-9387-108F504C4D8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D419B92-F2F4-40A2-8EF3-A0AACE138F1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0665-FC2F-491B-BD6F-D04357E97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B380-742D-4B52-977E-B00428352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49F9-5D22-4229-A8DD-74C3D972E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B6BA-21A5-4133-AE3D-B670D24A6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8944E-4A59-470B-9E1B-BB757B4BF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252E9-CEF8-4EEA-A1C9-AB751B717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603BE-618F-4242-AFF0-BB85DFBF6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E10FF-640F-4434-A561-7DD2ACAC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7CA43-1B36-4C63-8EB3-453D25D9A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D9A5E-6D99-4C45-9504-A5DDD4B73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CE4F9-E017-40A5-9CB2-EB085729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2696-7B9E-48D2-8386-522E7AE5F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7498A-F967-43DE-94A5-1B3551E0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51416-F8F2-4979-B03F-C509516C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3D2BE-FFFC-4220-B22E-E35F6053B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12BF6-4FA8-4C98-A973-3D1367C4A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13FCE-E7E5-41D5-B35A-6303468D2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3DBB9-D3AD-4739-BEA1-C015F4094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D82A3-B7DF-4C33-BD25-E38AF9C53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3E19A-991F-4617-8CB5-237B46389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0B1A8-2D9F-4A1B-B94E-170A11A30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197D7-990F-496B-8F19-EF7BFFC83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3881-3C34-4855-8AF7-9297C7F6D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F14FC-3D56-42CC-9647-771C6B3E9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16F80-76C1-45DF-B206-CFE793A3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56BE7-7497-430A-9CB7-E789C3EC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2115D-271D-4999-BA3D-1238D3A8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DCBF6-44B1-48AE-BBF5-32D908A83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7CD47-79C4-43C7-B402-2601B8608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F3B2F-ACAE-4585-B0E2-C155898CA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22D7-3D75-4878-A2EA-1B8D1AE40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ACEA-694F-442E-AE9D-C2EF572D9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D8E0-40F1-4F5B-909A-86D8B2893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56D8-B57A-4643-8B2E-D8C9DEC2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2746-25B4-4EDC-B48D-52DAE931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606E-F003-4F88-9935-F0466BC5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9E89AF-F13C-43A4-A387-AE3C46D356FA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a6b72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1484280" y="3733920"/>
            <a:ext cx="6172200" cy="0"/>
          </a:xfrm>
          <a:prstGeom prst="line">
            <a:avLst/>
          </a:prstGeom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271DF2-18B4-4B07-B4F6-0129850EE046}" type="slidenum">
              <a:rPr b="0" lang="en-US" sz="10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Straight Connector 6"/>
          <p:cNvSpPr/>
          <p:nvPr/>
        </p:nvSpPr>
        <p:spPr>
          <a:xfrm>
            <a:off x="1486080" y="4021200"/>
            <a:ext cx="6172200" cy="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1891AE-8681-476A-9B30-D500E4F49380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1600200"/>
            <a:ext cx="754380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</a:t>
            </a:r>
            <a:r>
              <a:rPr b="1" i="1" lang="es-ES_tradnl" sz="2400" spc="-1" strike="noStrike">
                <a:solidFill>
                  <a:srgbClr val="a6b727"/>
                </a:solidFill>
                <a:latin typeface="Corbel"/>
              </a:rPr>
              <a:t> 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General: 21 %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 algn="just">
              <a:lnSpc>
                <a:spcPct val="2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del 27 % 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Ventas y prestaciones originadas en la provisión de gas, energía eléctrica y aguas reguladas por medidor, y servicios de  telecomunicaciones, cuand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 </a:t>
            </a: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la venta o prestación se efectúe fuera de domicilios destinados a vivienda, terrenos baldíos o casas de recreo o veraneo, y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el adquirente o prestatario sea Resp. Inscripto, o Monotributista.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El P.E. puede reducir hasta 25% estas alícuotas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DF8A67-9848-4CFD-B8F0-49A7B118B1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838080" y="68580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 (cont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Árt. 24.2.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Empresas de servicios públicos con subsid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o asimila a CF por exportación (devolución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Por compra, fabricación, elaboración o importación definitiva de bs (excepto automotores) y por importación de obras o de servic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ímite de la devolución. Comparación IVA operación vs. IVA que correspondería si el subsidio estuviera alcanzado con IVA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Art. 24.2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Empresas de radiodifusión, editoras y distribuidoras. 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Cómputo como crédito fiscal de las contribuciones patronales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8" name="Marcador de número de diapositiva 3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147E77-9373-409F-AD5A-4ABA36B452DF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" y="1628280"/>
            <a:ext cx="76201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2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50560" y="2133360"/>
            <a:ext cx="856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RETEN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General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854 (AFIP) 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Compras de cosas muebles, locaciones y prestaciones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Especial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3744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de granos no destinados a la siembra), legumbres seca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3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caña de azúcar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4 (AFIP)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algodón en bruto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1105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Honorarios profesionales pagados vía judicial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EAB1AE-6666-4056-BB89-41F9A47F6B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696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4360" y="220464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- Cont.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Otras Resoluciones Generales y sus modificacion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130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DGI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oveedores de servicios públic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575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Facturas tipo “M”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Sist. de tarjetas de crédito y/o compr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363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AFIP) 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Compraventa de miel a granel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02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 Instituciones bancari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28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leche fluida sin procesar para ganado bovin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86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equinos para faen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774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Compraventa de lana suci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114AFD-5B2F-4766-A083-C851784D42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4674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PERCEP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Gener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08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de cosas muebles, locaciones y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es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937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Impor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126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a sujetos no categorizados en el IV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Especi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873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Producción y comercialización de haciendas y carnes bovinas y bubalin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82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-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Ventas de gas licua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03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cheques de pago diferi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5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Operaciones de canje de gran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A0208D-2714-4773-9523-4A6D779307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1600200"/>
            <a:ext cx="769644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440" y="2666520"/>
            <a:ext cx="7846920" cy="39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G 2226 AFIP. Requisitos a la fecha de la present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Saldo a favor de libre disponibilidad en la DDJJ del período inmediato anterior al momento de la solicitud, equivalente como mínimo al 20% del promedio del impuesto determinado en las ddjj del IVA que se mencionan en el punto 2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IVA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SUSS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 última DDJJ Ganancias, IGMP y Bs. Personales vencida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No registrar deuda líquida y exigible por las obligaciones de los puntos 2) y 4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Caída del Certificado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30169E-5FDC-4A5E-897A-9CD88606F3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76212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3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Momento para la present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En cualquier mes calendari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nov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n una antelación máxima de 30 días corridos a la finalización de la vigencia del beneficio anteriormente otorgad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Forma de tramitac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 través de la página web de la AFIP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8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BAF54A-E497-4966-AC92-69D1D02E52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 – Cont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762120" y="2209680"/>
            <a:ext cx="7842240" cy="42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64160" indent="-130680">
              <a:lnSpc>
                <a:spcPct val="2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olución de la solicitud – Procedimiento automátic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3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Dentro de los 15 días corridos contados desde la interposición de la solicitud o la presentación de la documentación requerida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Public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En la página web de la AFIP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Características de la exclus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Se otorga por períodos mensuales completos. Vigencia máxima: 6 meses contados desde el primer día del mes inmediato siguiente a aquél en el cual fue resuelta favorablemente la solicitud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2C1348-51AF-4D9A-BACD-85711E658A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066680" y="3200400"/>
            <a:ext cx="73915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Casos especiales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Inicio de activi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Reorganización de socie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Modificación de la situación tributaria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dquisición de equipamientos, reequipamiento o inversión en nuevos proyecto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52AEA7-F629-415A-A1DF-111A03ECA1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762120" y="2057400"/>
            <a:ext cx="73152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899640" y="1988640"/>
            <a:ext cx="7488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 u="sng">
                <a:solidFill>
                  <a:srgbClr val="a6b727"/>
                </a:solidFill>
                <a:uFillTx/>
                <a:latin typeface="Corbel"/>
              </a:rPr>
              <a:t>Bibliografía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24/1996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trucción de viviendas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6/1999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apitalización de hacienda y servicios de pastaje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73/1999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Nivelación de suelo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4/2000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Construcción de hotel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9/2002 (DAL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ignatarios de hacienda. Comisiones y flet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1/2003 (DAT):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Plantin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2/2003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Fletes e interes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9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D3D870-F520-460B-BD83-AE3F7A4C2A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Rectangle 1028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FE30B7-5E90-4F8F-AD20-32174CCEF5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78/2005 (DAT): Construcción de viviendas. Movimiento de suelo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9/2007 (DAT): Agropecuario. Análisis de humedad y fertilidad del suelo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1/2009 (DAT): Carpintería metálica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48/2004 (DAT), modificado por el Dictamen 18/2012 (DAT): Intereses por financia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allo Corte, Rectificaciones Rivadavia, 2011: Compensación Imp. Bs. Personales Resp. Sustituto. A favor. Posterior prohibición de la RG (AFIP) n° 3175 (CNACAF “Cresud”4.10.18 e “IRSA” 8.8.2018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 reducida del 10,5 %</a:t>
            </a:r>
            <a:r>
              <a:rPr b="1" lang="es-ES_tradnl" sz="2100" spc="-1" strike="noStrike">
                <a:solidFill>
                  <a:srgbClr val="a6b727"/>
                </a:solidFill>
                <a:latin typeface="Corbel"/>
              </a:rPr>
              <a:t> :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Animales vivos de ganado bovino, ovino, porcino, aviar y cunícula, camélidos y caprinos;  carnes y despojos comestibles de dichos animales, frutas, legumbres y hortalizas, miel a granel, granos y legumbres secas, cuero bovino, harina de trigo, pan, galletas y otros productos de panadería y/o pastelería sin envasar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Ciertas locaciones de obra o de servicios vinculados con la obtención de algunos de los bienes citados precedentemente (labores culturales, siembra, plantación, cosecha, aplicación de agroquímicos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Trabajos realizados en inmuebles propios o de terceros, destinados a vivienda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7FD46A-F571-4358-8A02-0CB8871E45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A7EB95-A4D4-4830-AB97-A775BC53DB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M Comercial, CSJN 14/06/2001. La CSJN convalidad la transferencia prevista en la LIVA ante la falta de reglamentación de la AFIP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Bufete Industrial Argentina. CSJN 6.3.2014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1413000"/>
            <a:ext cx="7848360" cy="720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(Continuación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228564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6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80922C-CE87-454E-B9E6-7875B81160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500040" y="2214720"/>
            <a:ext cx="82803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Times New Roman"/>
              </a:rPr>
              <a:t>Tasa reducida 10,5 %  -  cont.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Intereses y comisiones bancarias locales o del exterior que cumplan Std. Basilea, cuando el tomador revista la condición de Responsable Inscripto en el IV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Transporte de pasajeros no alcanzado por la exención art. 7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Asistencia médica y paramédica que brinden o contraten las cooperativas, mutuales y empresas medicina prepag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Bienes de capital (incluidos en Anexo art. 28 inc. e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 bienes (incluidos en Anexo art. 28 inc. f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Venta diarios, revistas, publicaciones periódicas. La producción editorial (según facturación) puede tener alícuotas del 5 % o 2,5%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Fertilizantes químicos para uso agrícol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609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61760" y="24382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Saldos a favor en el IVA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0961B9-FF98-4A5F-92C0-31B88C1709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609480" y="3143160"/>
          <a:ext cx="7162920" cy="347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143160"/>
                    <a:ext cx="7162920" cy="34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1752480"/>
            <a:ext cx="746784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sponibilidad de los saldos:</a:t>
            </a: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Saldo                           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Disponibilidad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écnico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tringida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 disponibilidad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Exportaciones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C68ADD-40E3-4E8B-B570-E91BC33AC9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Line 4"/>
          <p:cNvSpPr/>
          <p:nvPr/>
        </p:nvSpPr>
        <p:spPr>
          <a:xfrm>
            <a:off x="2819520" y="48769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Line 5"/>
          <p:cNvSpPr/>
          <p:nvPr/>
        </p:nvSpPr>
        <p:spPr>
          <a:xfrm>
            <a:off x="4114800" y="5334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Line 6"/>
          <p:cNvSpPr/>
          <p:nvPr/>
        </p:nvSpPr>
        <p:spPr>
          <a:xfrm>
            <a:off x="3505320" y="5791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746748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14040" y="2819160"/>
            <a:ext cx="7467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62720" indent="-129600">
              <a:lnSpc>
                <a:spcPct val="7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Destino de los saldos de libre disponibilidad: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mpensación o acreditación  (RG AFIP Nº 1658). 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(efecto desde presentación o subsanación, suspensión 45 días, control sistémico, sujeto a verificación conf. art. 16 LPT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Devolución (RG DGI Nº 2224)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300" spc="-1" strike="noStrike">
                <a:solidFill>
                  <a:srgbClr val="a6b727"/>
                </a:solidFill>
                <a:latin typeface="Corbel"/>
              </a:rPr>
              <a:t>(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efecto desde la presentación o subsanación, suspensión 45 días, no existencia de deuda líquida o exigible que puede ser compensada previamente, no es repetición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Transferencia (RG AFIP Nº 1466)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Requisitos: a) existencia y legitimidad; b) no registro de deudas líquidas y exigibles; c) detracción del SAF en la última DDJJ IVA. Intereses desde la presentación o subsanación hasta la notificación de habilitación de la transferencia. Acto administrativo. Apelación. Responsabilidad solidaria (alcance). Normas transitorias (retroactividad, inconstitucionalidad Fallo CSJN Saiz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3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0084EA-B5A5-4B4D-B5B4-A669CDCA3E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600" spc="-1" strike="noStrike">
                <a:solidFill>
                  <a:srgbClr val="a6b727"/>
                </a:solidFill>
                <a:latin typeface="Corbel"/>
              </a:rPr>
              <a:t>Saldos Técnicos.  Otras situaciones especiales que permiten la disponibilidad del saldo:</a:t>
            </a: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bienes de capital alcanzados con alícuota reducida de IVA (10,5%) (RG AFIP Nº 1168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fertilizantes químicos para uso agrícola (10,5%) (RG AFIP Nº 2125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A89908-B262-4C26-8834-B65543B7AF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ARTICULO 8º — Responsables en forma personal y solidaria con los deudores del tributo. Responden con sus bienes propios y solidariamente con los deudores del tributo y, si los hubiere, con otros responsables del mismo gravamen, sin perjuicio de las sanciones correspondientes a las infracciones cometidas: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g) Los cedentes de créditos tributarios respecto de la deuda tributaria de sus cesionarios y hasta la concurrencia del importe aplicado a su cancelación, si se impugnara la existencia o legitimidad de tales créditos y los deudores no regularizan su situación fiscal dentro de los quince (15) días de la intimación administrativa de pago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A5A99B-121E-47A6-A508-3C8D808A5B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7543800" cy="75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24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11280" y="2421000"/>
            <a:ext cx="77724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Art. incorporado a continuación del artículo 24 de la ley del IVA, por la Reforma Tributaria Ley 27430 (B.O. 29/12/2017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Créditos Fiscales originados en compra, construcción, fabricación, elaboración o importación definitiva de bienes de uso, excepto automóviles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Que hayan generado 6 meses consecutivos de saldos a favor técnico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La devolución realizada por la AFIP, no deberá ser devuelta por el contribuyente, siempre y cuando hubiera generado débitos fiscales superiores a los créditos fiscales, en los siguientes 60 meses posteriores a la devolución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D849E1-96E8-4603-BACB-4EE4D9BFB0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7T10:01:21Z</dcterms:created>
  <dc:creator>Claudio Hernandez</dc:creator>
  <dc:description/>
  <dc:language>en-US</dc:language>
  <cp:lastModifiedBy>MARIA INES GIMENEZ ELISSAMBURU</cp:lastModifiedBy>
  <cp:lastPrinted>2007-05-07T21:52:32Z</cp:lastPrinted>
  <dcterms:modified xsi:type="dcterms:W3CDTF">2024-05-15T02:05:27Z</dcterms:modified>
  <cp:revision>209</cp:revision>
  <dc:subject/>
  <dc:title>SOCIEDADES DE PROFESIONALES  PLANTEO DE LA CUES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ppReportCurrencySymbol">
    <vt:lpwstr>$</vt:lpwstr>
  </property>
  <property fmtid="{D5CDD505-2E9C-101B-9397-08002B2CF9AE}" pid="3" name="WppReportDashboardTitleText">
    <vt:lpwstr>Dashboard</vt:lpwstr>
  </property>
  <property fmtid="{D5CDD505-2E9C-101B-9397-08002B2CF9AE}" pid="4" name="WppReportDate">
    <vt:lpwstr/>
  </property>
  <property fmtid="{D5CDD505-2E9C-101B-9397-08002B2CF9AE}" pid="5" name="WppReportDraft">
    <vt:lpwstr>(Draft)</vt:lpwstr>
  </property>
  <property fmtid="{D5CDD505-2E9C-101B-9397-08002B2CF9AE}" pid="6" name="WppReportIsTocUpdateRecommended">
    <vt:bool>1</vt:bool>
  </property>
  <property fmtid="{D5CDD505-2E9C-101B-9397-08002B2CF9AE}" pid="7" name="WppReportLongPageNumberFormat">
    <vt:lpwstr>Page &lt;#&gt; of &lt;PageCount&gt;</vt:lpwstr>
  </property>
  <property fmtid="{D5CDD505-2E9C-101B-9397-08002B2CF9AE}" pid="8" name="WppReportPropertiesLastWrittenToDocument">
    <vt:filetime>2024-02-28T20:57:54Z</vt:filetime>
  </property>
  <property fmtid="{D5CDD505-2E9C-101B-9397-08002B2CF9AE}" pid="9" name="WppReportShortPageNumberFormat">
    <vt:lpwstr>Page &lt;#&gt;</vt:lpwstr>
  </property>
  <property fmtid="{D5CDD505-2E9C-101B-9397-08002B2CF9AE}" pid="10" name="WppReportTocTitleText">
    <vt:lpwstr>Table of contents</vt:lpwstr>
  </property>
  <property fmtid="{D5CDD505-2E9C-101B-9397-08002B2CF9AE}" pid="11" name="WppReportVersion">
    <vt:lpwstr>Version 1.0</vt:lpwstr>
  </property>
</Properties>
</file>